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3D36-24D8-49BF-89E0-9FE3C55AA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gestive-disorders/small-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csd-ws.mcbarons.manheimcentral.org/~williamst/Frog/Vill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mm.edu/imagepages/8834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mm.edu/patiented/articles/large_intestine_00032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t Wim Delvo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gestive-disorders/digestive-tract-153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gestive-disorders/picture-of-the-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Duode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hadygroveadventisthospital.com/adam/Surgery%20and%20Procedures/13/10018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CD2-207F-4711-9394-835E5022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37D-5558-46F7-8610-0AE2714F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937-8753-4E02-93A5-9042A99D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564-B51E-489A-92E0-4C338226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989-0021-44BD-9CD7-72209991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12DF-BC50-4759-B2D9-2A20F15C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7D0-5E2B-4883-BEF8-5335938A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FB8-8747-4666-A8F8-233A9463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19C-C839-4AA1-8B4C-0DD669E4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B66-EB96-4A8B-B016-8BB075AC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485-173D-4578-AE6F-9B768B8B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76A-B737-46E0-A88E-62FC456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BE19-78D8-4534-B25F-56FF0E42E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7xKYNz9AS0" TargetMode="External"/><Relationship Id="rId2" Type="http://schemas.openxmlformats.org/officeDocument/2006/relationships/hyperlink" Target="http://highered.mcgraw-hill.com/sites/0072495855/student_view0/chapter26/animation__organs_of_digestion.html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0E9ITyRlh0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 &amp; 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(Small Intestin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15880" y="1981080"/>
            <a:ext cx="6310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7 metres in length (25 cm of which is duodenum), 2.5 cm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l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vil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surface area for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2328840"/>
            <a:ext cx="38098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 metres long, 5 cm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bacteria produces vitamins K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f dig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Z7xKYNz9AS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&amp;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ighered.mcgraw-hill.com/sites/0072495855/student_view0/chapter26/animation__organs_of_digestio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19160" y="1981080"/>
            <a:ext cx="530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819000"/>
            <a:ext cx="7772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s of Food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e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hysical breakdown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ivary gla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mylase in saliva breaks down starch (chemical diges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n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rms bolus, pushes it back to ph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ophag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ristalsis moves bolus d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h0E9ITyRlh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(Stoma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39720" y="1981080"/>
            <a:ext cx="6062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(Stoma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stric ju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ydrochloric acid + enzymes (e.g., peps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rotects lining of stomach from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y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artly digested food, water, and gastric juice that enters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(Duodenu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10040" y="1981080"/>
            <a:ext cx="2922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(Duodenu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duced in liver, stored in gall bladder): emulsifies 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p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myl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yp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duced in pancreas): digest fat, starch,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lt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ptid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duced in duodenum): digest maltose, poly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7:00:14Z</dcterms:created>
  <dc:creator>rubina khan</dc:creator>
  <dc:description/>
  <dc:language>en-US</dc:language>
  <cp:lastModifiedBy>rubina khan</cp:lastModifiedBy>
  <dcterms:modified xsi:type="dcterms:W3CDTF">2012-11-22T17:39:34Z</dcterms:modified>
  <cp:revision>41</cp:revision>
  <dc:subject/>
  <dc:title>The Digestive System</dc:title>
</cp:coreProperties>
</file>